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9ca"/>
                </a:solidFill>
                <a:latin typeface="Lucida Grande"/>
              </a:rPr>
              <a:t>Click to move the slide</a:t>
            </a:r>
            <a:endParaRPr b="0" lang="en-US" sz="48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9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The grid system formed by lines of latitude and longitude makes it easy to find the absolute location of any place in the world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F1DD-A3BB-4C34-9D63-7A47AC8C6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83CB8-C295-400F-97AB-D5E0A6C4A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88D1-10EB-4E25-B6C9-993EC61CF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A89F-5AFB-4320-86BE-CA68F5659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E6819-4F11-4DA3-B3EA-3797056E94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2E99F-2A67-4A54-91F8-2A07E406B0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7FB2-C3A0-42AA-AD06-05C186EA05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AECA-61D1-46D9-AA8A-59CD467DE8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81EF-5C78-42F1-A16A-60567EE7DB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42C6-7B08-49C3-A021-2992B410F3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369D-7699-456F-937C-36CA91D356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9E43-8F09-4458-843F-4ED044631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DB19-F6FB-4534-A35C-50190B6E5D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86F26-3B1C-4100-BEF0-358297547B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05FC-20C4-4761-B92E-1463525D58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BBE18-641C-4AEF-B36E-955B72569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7175-7C9E-4E56-AAD6-F9EBAD23C8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574-7226-4262-B7B4-7851A73A21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77E-9E3F-4228-A351-83638C15E3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AE6-EF2B-46D1-8FBD-E3586F9899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9D8-CC0B-4432-8A7F-1B829811C9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D7B-9C28-48E3-AE6E-A5E012F1E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6624-A859-4F7B-9A9E-F4CE5AB6B4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7C7E-6403-42E1-83F2-2499987FFD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0B1-DBB8-40AE-A9AF-1090C087AA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021-0912-426A-B109-FD0380B529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88A-E50E-4DB4-B342-240B61EAB3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21E-84D1-405E-969E-783E35E91F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29D-8A04-4D07-8536-602F95A896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111-739B-4ACF-8440-34F54FC06D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EB025-614D-4584-ABF6-30096B3659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8C484-7DB0-4F22-A670-B1E6D00AE3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72623-20A6-42B4-A57A-86DF3B5C9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9154-C73F-46D5-B174-133E7DEFB2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363F8-532C-421C-A60D-5F17411EDE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525D2-A428-4D16-98C1-E16FE0E284B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2E22E-EB5B-46C0-BDDB-1165BA2748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B3A8-4B32-461D-9EDF-B591779184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FBF00-C364-4E0F-867A-8A978A154F2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624BE-A7EE-4B9C-AEA7-E0D14AEEFC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1D4CE-A2E7-4546-A594-D8B444097E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58D03-3E71-446D-9BF1-28B0102DBD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4448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367520"/>
            <a:ext cx="264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AF591-D7E3-4D9B-B26A-914538394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C13C-3697-4DC4-9F44-EB51D0DB8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9470-670E-4073-A39A-736D3A95E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BCFA-6755-446B-8AB4-06D56657E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6752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E76A-3076-4DCB-B2A6-059EE48A5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44480"/>
            <a:ext cx="40158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67520"/>
            <a:ext cx="8229600" cy="248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E1DE-C0A7-430F-B2DA-366A2D8D5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9ca"/>
                </a:solidFill>
                <a:latin typeface="Lucida Grande"/>
              </a:rPr>
              <a:t>Click to edit the title text format</a:t>
            </a:r>
            <a:endParaRPr b="0" lang="en-US" sz="48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360" y="2819520"/>
            <a:ext cx="655956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3430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8002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12574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17146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17146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1714680" algn="r"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72480" y="6477120"/>
            <a:ext cx="341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3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711-CF60-4B40-8D20-2506D3615ED6}" type="slidenum">
              <a:rPr b="0" lang="en-US" sz="1600" spc="-1" strike="noStrike">
                <a:solidFill>
                  <a:srgbClr val="dfe0d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032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52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4472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4472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4472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248520"/>
            <a:ext cx="2923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164F-43E0-43CB-9A1D-51BCCDA81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6e9ca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44480"/>
            <a:ext cx="403848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6000"/>
          </a:bodyPr>
          <a:p>
            <a:pPr marL="250920" indent="-250920"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451800" indent="-196560">
              <a:buClr>
                <a:srgbClr val="b0ccb0"/>
              </a:buClr>
              <a:buSzPct val="8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608760" indent="-1652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765720" indent="-1569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922680" indent="-15696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922680" indent="-15696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922680" indent="-15696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775720" y="6483240"/>
            <a:ext cx="3398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3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5044-0428-4194-AF5C-F38AD219ABB2}" type="slidenum">
              <a:rPr b="0" lang="en-US" sz="1600" spc="-1" strike="noStrike">
                <a:solidFill>
                  <a:srgbClr val="dfe0d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6e9ca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91960" indent="-291960"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1" marL="525600" indent="-228600">
              <a:buClr>
                <a:srgbClr val="b0ccb0"/>
              </a:buClr>
              <a:buSzPct val="87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2" marL="708120" indent="-1922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3" marL="89064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4" marL="10731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5" marL="107316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lvl="6" marL="107316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8772480" y="6483240"/>
            <a:ext cx="3412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3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1479-4D56-4217-BB6A-48CC37787C5B}" type="slidenum">
              <a:rPr b="0" lang="en-US" sz="1600" spc="-1" strike="noStrike">
                <a:solidFill>
                  <a:srgbClr val="dfe0d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3440" y="146160"/>
            <a:ext cx="8815320" cy="25048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3680" y="-36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9ca"/>
                </a:solidFill>
                <a:latin typeface="Lucida Grande"/>
              </a:rPr>
              <a:t>Latitude and Longitude</a:t>
            </a:r>
            <a:endParaRPr b="0" lang="en-US" sz="48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33360" y="2819520"/>
            <a:ext cx="655956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1160" y="19681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fe"/>
                </a:solidFill>
                <a:latin typeface="Comic Sans MS Bold"/>
                <a:ea typeface="Comic Sans MS Bold"/>
              </a:rPr>
              <a:t>What is La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28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horizont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titude is</a:t>
            </a: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 measured in deg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</a:t>
            </a:r>
            <a:r>
              <a:rPr b="0" lang="en-US" sz="2800" spc="-1" strike="noStrike">
                <a:solidFill>
                  <a:srgbClr val="a40800"/>
                </a:solidFill>
                <a:latin typeface="Comic Sans MS Bold"/>
                <a:ea typeface="Comic Sans MS Bold"/>
              </a:rPr>
              <a:t>Equator</a:t>
            </a:r>
            <a:r>
              <a:rPr b="0" lang="en-US" sz="2800" spc="-1" strike="noStrike">
                <a:solidFill>
                  <a:srgbClr val="a40800"/>
                </a:solidFill>
                <a:latin typeface="Comic Sans MS"/>
                <a:ea typeface="Comic Sans MS"/>
              </a:rPr>
              <a:t> is 0 degrees Lat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Lines of Lat locate places </a:t>
            </a:r>
            <a:r>
              <a:rPr b="0" lang="en-US" sz="28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North </a:t>
            </a: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or </a:t>
            </a:r>
            <a:r>
              <a:rPr b="0" lang="en-US" sz="28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South</a:t>
            </a:r>
            <a:r>
              <a:rPr b="0" lang="en-US" sz="2800" spc="-1" strike="noStrike">
                <a:solidFill>
                  <a:srgbClr val="d90b00"/>
                </a:solidFill>
                <a:latin typeface="Comic Sans MS"/>
                <a:ea typeface="Comic Sans MS"/>
              </a:rPr>
              <a:t> of Equa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North Pole is 90 degrees N Latitude, and the South Pole is 90 degrees S Latitude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2057400" cy="121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201960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Lucida Grande"/>
              </a:rPr>
              <a:t>Longitude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403848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Lines of longitude are called </a:t>
            </a:r>
            <a:r>
              <a:rPr b="1" lang="en-US" sz="2800" spc="-1" strike="noStrike">
                <a:solidFill>
                  <a:srgbClr val="d90b00"/>
                </a:solidFill>
                <a:latin typeface="Lucida Grande"/>
              </a:rPr>
              <a:t>meridians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They circle the earth from Pole to Pole.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They measure east and west </a:t>
            </a:r>
            <a:r>
              <a:rPr b="0" lang="en-US" sz="2800" spc="-1" strike="noStrike">
                <a:solidFill>
                  <a:srgbClr val="ffffff"/>
                </a:solidFill>
                <a:latin typeface="Lucida Grande"/>
              </a:rPr>
              <a:t> 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at </a:t>
            </a:r>
            <a:r>
              <a:rPr b="1" lang="en-US" sz="2800" spc="-1" strike="noStrike">
                <a:solidFill>
                  <a:srgbClr val="d90b00"/>
                </a:solidFill>
                <a:latin typeface="Lucida Grande"/>
              </a:rPr>
              <a:t>0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° longitude or the </a:t>
            </a:r>
            <a:r>
              <a:rPr b="1" lang="en-US" sz="2800" spc="-1" strike="noStrike">
                <a:solidFill>
                  <a:srgbClr val="d90b00"/>
                </a:solidFill>
                <a:latin typeface="Lucida Grande"/>
              </a:rPr>
              <a:t>Prime Meridian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648320" y="1793880"/>
            <a:ext cx="4038480" cy="4228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153280" y="1981080"/>
            <a:ext cx="546120" cy="5461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6095880"/>
            <a:ext cx="102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ps101.com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Lucida Grande"/>
              </a:rPr>
              <a:t>Absolute Location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644480"/>
            <a:ext cx="403848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exact spot where one line of latitude crosses one line of longitude </a:t>
            </a:r>
            <a:endParaRPr b="0" lang="en-US" sz="28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520" y="1674720"/>
            <a:ext cx="4135320" cy="3992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990720" y="5715000"/>
            <a:ext cx="33145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ttp://www.navfltsm.addr.com/globe.jpg</a:t>
            </a:r>
            <a:endParaRPr b="0" lang="en-US" sz="1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3dcc"/>
                </a:solidFill>
                <a:latin typeface="Lucida Grande"/>
              </a:rPr>
              <a:t>Hemispheres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North of equator is </a:t>
            </a:r>
            <a:r>
              <a:rPr b="1" lang="en-US" sz="3200" spc="-1" strike="noStrike">
                <a:solidFill>
                  <a:srgbClr val="ff2712"/>
                </a:solidFill>
                <a:latin typeface="Lucida Grande"/>
              </a:rPr>
              <a:t>Northern Hemisphere</a:t>
            </a: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South of equator is</a:t>
            </a:r>
            <a:r>
              <a:rPr b="1" lang="en-US" sz="3200" spc="-1" strike="noStrike">
                <a:solidFill>
                  <a:srgbClr val="ff2712"/>
                </a:solidFill>
                <a:latin typeface="Lucida Grande"/>
              </a:rPr>
              <a:t> Southern Hemisphere</a:t>
            </a:r>
            <a:r>
              <a:rPr b="0" lang="en-US" sz="3200" spc="-1" strike="noStrike">
                <a:solidFill>
                  <a:srgbClr val="ff2712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3440" y="146160"/>
            <a:ext cx="8810640" cy="6565680"/>
          </a:xfrm>
          <a:prstGeom prst="pie">
            <a:avLst/>
          </a:prstGeom>
          <a:solidFill>
            <a:srgbClr val="a1a392">
              <a:alpha val="64000"/>
            </a:srgbClr>
          </a:solidFill>
          <a:ln cap="rnd" w="11160">
            <a:solidFill>
              <a:srgbClr val="b6b9a6">
                <a:alpha val="8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5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6e9ca"/>
                </a:solidFill>
                <a:latin typeface="Lucida Grande"/>
              </a:rPr>
              <a:t>Hemispheres</a:t>
            </a:r>
            <a:endParaRPr b="0" lang="en-US" sz="4600" spc="-1" strike="noStrike">
              <a:solidFill>
                <a:srgbClr val="e6e9ca"/>
              </a:solidFill>
              <a:latin typeface="Lucida Gran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448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The Prime Meridian runs from north to south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It divides the earth into </a:t>
            </a:r>
            <a:r>
              <a:rPr b="1" lang="en-US" sz="3200" spc="-1" strike="noStrike">
                <a:solidFill>
                  <a:srgbClr val="ffffff"/>
                </a:solidFill>
                <a:latin typeface="Lucida Grande"/>
              </a:rPr>
              <a:t>half spheres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 in the other direction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East of Prime Meridian is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</a:rPr>
              <a:t>Eastern Hemisphere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  <a:p>
            <a:pPr marL="254160" indent="-254160">
              <a:lnSpc>
                <a:spcPct val="100000"/>
              </a:lnSpc>
              <a:buClr>
                <a:srgbClr val="72a376"/>
              </a:buClr>
              <a:buSzPct val="68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West of Prime Meridian is </a:t>
            </a:r>
            <a:r>
              <a:rPr b="1" lang="en-US" sz="3200" spc="-1" strike="noStrike">
                <a:solidFill>
                  <a:srgbClr val="d90b00"/>
                </a:solidFill>
                <a:latin typeface="Lucida Grande"/>
              </a:rPr>
              <a:t>Western Hemisphere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200103523</dc:creator>
  <dc:description/>
  <dc:language>en-US</dc:language>
  <cp:lastModifiedBy/>
  <cp:revision>0</cp:revision>
  <dc:subject/>
  <dc:title>Slide 1</dc:title>
</cp:coreProperties>
</file>